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88F6-2CA9-49D7-BEF0-370A8125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D2B1-1745-4AC9-9281-E9DA738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7118-C54F-4138-859C-560E249D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52D9-CF85-4472-A474-9A725926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116D-7D03-4D0D-BA1D-CC14F1C3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5363-3A4D-44FC-A1CF-CFF67F6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5419-9A33-4DA0-BD6F-BAE83EE2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824F-7191-4EA1-893A-51254BAC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6996-C005-4DC7-B4BC-27E8608D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B6C1-AFED-43D6-9AB2-207D46A4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0AC6-6DF1-4C30-8530-ACCA438E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C188-B493-4F92-B66A-385A05D8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164D-5172-49D5-9DFD-6FD800D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E8C1-B000-4077-AFF9-65F3D8E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A3AA-1CD1-411A-8F9F-01561D0E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F7E4-1DB4-47B8-BFC6-BD6CDE8E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58A9-54E4-4D47-8F8A-7AF385D5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6EFE-DB60-45A9-BBCE-2F0E8EA4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48DB-6FE7-4D35-BC62-115670A7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5B29-1BA5-48DB-97BE-32F62E5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C042-FFE2-47D0-81CB-FF812D4F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AFA8-DE74-4463-B6F4-EBBE70AF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2163-6FB4-4B7E-8F26-C1E85F0F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7620A-27D9-4868-825B-84EB098D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73A3-2E8E-4D23-988D-D56744C63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CA7E-9D02-489A-BC91-961A07E5D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laintext up into groups of a fixed siz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permutation of the integers 1 to d called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block, permute the letters according to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is (d,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let d = 5 and let f be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287720" y="4127400"/>
            <a:ext cx="1711800" cy="459720"/>
            <a:chOff x="1287720" y="4127400"/>
            <a:chExt cx="1711800" cy="459720"/>
          </a:xfrm>
        </p:grpSpPr>
        <p:sp>
          <p:nvSpPr>
            <p:cNvPr id="116" name=""/>
            <p:cNvSpPr/>
            <p:nvPr/>
          </p:nvSpPr>
          <p:spPr>
            <a:xfrm>
              <a:off x="128772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4960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8640" y="4373640"/>
              <a:ext cx="89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87720" y="4660920"/>
            <a:ext cx="1711800" cy="459720"/>
            <a:chOff x="1287720" y="4660920"/>
            <a:chExt cx="1711800" cy="459720"/>
          </a:xfrm>
        </p:grpSpPr>
        <p:sp>
          <p:nvSpPr>
            <p:cNvPr id="120" name=""/>
            <p:cNvSpPr/>
            <p:nvPr/>
          </p:nvSpPr>
          <p:spPr>
            <a:xfrm>
              <a:off x="128772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8920" y="48974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7440" y="5194440"/>
            <a:ext cx="1702080" cy="459720"/>
            <a:chOff x="1297440" y="5194440"/>
            <a:chExt cx="1702080" cy="459720"/>
          </a:xfrm>
        </p:grpSpPr>
        <p:sp>
          <p:nvSpPr>
            <p:cNvPr id="124" name=""/>
            <p:cNvSpPr/>
            <p:nvPr/>
          </p:nvSpPr>
          <p:spPr>
            <a:xfrm>
              <a:off x="129744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54212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87720" y="5727600"/>
            <a:ext cx="1693080" cy="459720"/>
            <a:chOff x="1287720" y="5727600"/>
            <a:chExt cx="1693080" cy="459720"/>
          </a:xfrm>
        </p:grpSpPr>
        <p:sp>
          <p:nvSpPr>
            <p:cNvPr id="128" name=""/>
            <p:cNvSpPr/>
            <p:nvPr/>
          </p:nvSpPr>
          <p:spPr>
            <a:xfrm>
              <a:off x="128772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088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9280" y="5945400"/>
              <a:ext cx="87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87720" y="6261120"/>
            <a:ext cx="1711800" cy="459720"/>
            <a:chOff x="1287720" y="6261120"/>
            <a:chExt cx="1711800" cy="459720"/>
          </a:xfrm>
        </p:grpSpPr>
        <p:sp>
          <p:nvSpPr>
            <p:cNvPr id="132" name=""/>
            <p:cNvSpPr/>
            <p:nvPr/>
          </p:nvSpPr>
          <p:spPr>
            <a:xfrm>
              <a:off x="128772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960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8920" y="646920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65320" y="4421160"/>
            <a:ext cx="420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 e t t h    e b a l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95720" y="4811760"/>
            <a:ext cx="853920" cy="918360"/>
            <a:chOff x="4095720" y="4811760"/>
            <a:chExt cx="853920" cy="918360"/>
          </a:xfrm>
        </p:grpSpPr>
        <p:sp>
          <p:nvSpPr>
            <p:cNvPr id="137" name=""/>
            <p:cNvSpPr/>
            <p:nvPr/>
          </p:nvSpPr>
          <p:spPr>
            <a:xfrm>
              <a:off x="4095720" y="481176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8316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29080" y="4773600"/>
            <a:ext cx="856440" cy="956520"/>
            <a:chOff x="4429080" y="4773600"/>
            <a:chExt cx="856440" cy="956520"/>
          </a:xfrm>
        </p:grpSpPr>
        <p:sp>
          <p:nvSpPr>
            <p:cNvPr id="140" name=""/>
            <p:cNvSpPr/>
            <p:nvPr/>
          </p:nvSpPr>
          <p:spPr>
            <a:xfrm>
              <a:off x="4429080" y="477360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5600" y="5270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35160" y="4773600"/>
            <a:ext cx="807840" cy="956520"/>
            <a:chOff x="3935160" y="4773600"/>
            <a:chExt cx="807840" cy="956520"/>
          </a:xfrm>
        </p:grpSpPr>
        <p:sp>
          <p:nvSpPr>
            <p:cNvPr id="143" name=""/>
            <p:cNvSpPr/>
            <p:nvPr/>
          </p:nvSpPr>
          <p:spPr>
            <a:xfrm>
              <a:off x="3935160" y="527040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62320" y="4773600"/>
              <a:ext cx="5806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72120" y="4782960"/>
            <a:ext cx="474480" cy="946800"/>
            <a:chOff x="5172120" y="4782960"/>
            <a:chExt cx="474480" cy="946800"/>
          </a:xfrm>
        </p:grpSpPr>
        <p:sp>
          <p:nvSpPr>
            <p:cNvPr id="146" name=""/>
            <p:cNvSpPr/>
            <p:nvPr/>
          </p:nvSpPr>
          <p:spPr>
            <a:xfrm>
              <a:off x="5363640" y="527004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2120" y="4782960"/>
              <a:ext cx="24732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21000" y="4773600"/>
            <a:ext cx="1198440" cy="956520"/>
            <a:chOff x="4221000" y="4773600"/>
            <a:chExt cx="1198440" cy="956520"/>
          </a:xfrm>
        </p:grpSpPr>
        <p:sp>
          <p:nvSpPr>
            <p:cNvPr id="149" name=""/>
            <p:cNvSpPr/>
            <p:nvPr/>
          </p:nvSpPr>
          <p:spPr>
            <a:xfrm>
              <a:off x="422100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680" y="4773600"/>
              <a:ext cx="92376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05560" y="4802040"/>
            <a:ext cx="837720" cy="918360"/>
            <a:chOff x="6505560" y="4802040"/>
            <a:chExt cx="837720" cy="918360"/>
          </a:xfrm>
        </p:grpSpPr>
        <p:sp>
          <p:nvSpPr>
            <p:cNvPr id="152" name=""/>
            <p:cNvSpPr/>
            <p:nvPr/>
          </p:nvSpPr>
          <p:spPr>
            <a:xfrm>
              <a:off x="6505560" y="480204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336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38920" y="4764240"/>
            <a:ext cx="872640" cy="956160"/>
            <a:chOff x="6838920" y="4764240"/>
            <a:chExt cx="872640" cy="956160"/>
          </a:xfrm>
        </p:grpSpPr>
        <p:sp>
          <p:nvSpPr>
            <p:cNvPr id="155" name=""/>
            <p:cNvSpPr/>
            <p:nvPr/>
          </p:nvSpPr>
          <p:spPr>
            <a:xfrm>
              <a:off x="6838920" y="4764240"/>
              <a:ext cx="5713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5080" y="526068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345720" y="4764240"/>
            <a:ext cx="807120" cy="956160"/>
            <a:chOff x="6345720" y="4764240"/>
            <a:chExt cx="807120" cy="956160"/>
          </a:xfrm>
        </p:grpSpPr>
        <p:sp>
          <p:nvSpPr>
            <p:cNvPr id="158" name=""/>
            <p:cNvSpPr/>
            <p:nvPr/>
          </p:nvSpPr>
          <p:spPr>
            <a:xfrm>
              <a:off x="634572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72160" y="4764240"/>
              <a:ext cx="58068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81960" y="4773600"/>
            <a:ext cx="457560" cy="946800"/>
            <a:chOff x="7581960" y="4773600"/>
            <a:chExt cx="457560" cy="946800"/>
          </a:xfrm>
        </p:grpSpPr>
        <p:sp>
          <p:nvSpPr>
            <p:cNvPr id="161" name=""/>
            <p:cNvSpPr/>
            <p:nvPr/>
          </p:nvSpPr>
          <p:spPr>
            <a:xfrm>
              <a:off x="777348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4773600"/>
              <a:ext cx="2476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30120" y="4764240"/>
            <a:ext cx="1199160" cy="956160"/>
            <a:chOff x="6630120" y="4764240"/>
            <a:chExt cx="1199160" cy="956160"/>
          </a:xfrm>
        </p:grpSpPr>
        <p:sp>
          <p:nvSpPr>
            <p:cNvPr id="164" name=""/>
            <p:cNvSpPr/>
            <p:nvPr/>
          </p:nvSpPr>
          <p:spPr>
            <a:xfrm>
              <a:off x="663012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05520" y="4764240"/>
              <a:ext cx="92376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BCA6-F9E5-4703-8151-89557BFE52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ermutation under the ciphe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68520" y="3651120"/>
            <a:ext cx="50054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53D3-DA44-499A-A48E-7DF06E3989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3T01:56:35Z</dcterms:modified>
  <cp:revision>69</cp:revision>
  <dc:subject/>
  <dc:title>CAP Cryptographic Analysis Program</dc:title>
</cp:coreProperties>
</file>